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E90-A986-42A3-9325-93925632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B05-77D1-4DA8-ACDB-6CB0F87C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982-D618-434D-89B9-3837B35D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8E4-C2B1-4757-A114-2341C121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1A6-A60C-4D36-8E7B-B236F5EC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E12-125F-4D88-AAB8-9D8A3F0A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946-07A2-416F-A060-AF5B101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609-D25B-47A4-9BC8-2A041E08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C97-CD6D-4794-82FC-15BF048D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CE5-485A-464C-AF10-F2332A2E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90D-849C-443E-9938-D4E6DD1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C5B-6A3D-4455-833F-E6D1C38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767F-8773-4F80-AF4B-3945EEC9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artin-samaritan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57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71600" y="7621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buon Samarit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71600" y="2286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presentazione grafica di Henry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90920" y="3657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tto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438280" y="4572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mons4Kid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artin-samaritan1"/>
          <p:cNvPicPr/>
          <p:nvPr/>
        </p:nvPicPr>
        <p:blipFill>
          <a:blip r:embed="rId1"/>
          <a:stretch/>
        </p:blipFill>
        <p:spPr>
          <a:xfrm>
            <a:off x="0" y="95400"/>
            <a:ext cx="8915400" cy="6686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638680" y="1600200"/>
            <a:ext cx="32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uomo scendeva da Gerusalemme a Gerico e incappò nei brig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artin-samaritan2"/>
          <p:cNvPicPr/>
          <p:nvPr/>
        </p:nvPicPr>
        <p:blipFill>
          <a:blip r:embed="rId1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715000" y="1905120"/>
            <a:ext cx="28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lo spogliarono, lo percossero e poi se ne andarono, lasciandolo mezzo m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artin-samaritan3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57200" y="380880"/>
            <a:ext cx="2438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aso, un sacerdote scendeva per quella medesima strada e quando lo vi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248520" y="41148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ssò oltre dall’altra p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artin-samaritan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85800" y="762120"/>
            <a:ext cx="220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che un levita, giunto in quel luogo, lo 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72200" y="4235400"/>
            <a:ext cx="23623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passò olt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artin-samaritan5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80880" y="609480"/>
            <a:ext cx="266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vece un Samaritano, che era in viaggio, passandogli accanto lo vid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172200" y="35053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 n’ebbe compass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martin-samaritan6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62120" y="5105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si fece vicino, gli fasciò le ferite, versandovi olio e vino; poi, caricatolo sopra il suo giumento, lo portò a una locanda e si prese cura di lu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artin-samaritan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99072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 di questi tre ti sembra sia stato il prossimo di colui che è incappato nei brigant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76520" y="23623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 ha avuto compassione di l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29528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ù gli disse: “Va’ e anche tu fa’ lo stess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666880" y="4191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ca 10,30-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4:25:22Z</dcterms:created>
  <dc:creator>Clyde CISD</dc:creator>
  <dc:description/>
  <dc:language>en-US</dc:language>
  <cp:lastModifiedBy>Sandra</cp:lastModifiedBy>
  <dcterms:modified xsi:type="dcterms:W3CDTF">2013-09-14T17:50:56Z</dcterms:modified>
  <cp:revision>9</cp:revision>
  <dc:subject/>
  <dc:title>PowerPoint Presentation</dc:title>
</cp:coreProperties>
</file>